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BB8F-270B-40FA-A90F-C0C7426BC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0C2B-BC8A-4E3A-8ADC-4774DFA65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4814-6B16-4FD0-8220-F1A11D861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0C07-8916-4EAC-A09A-E2AF447EE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DAE4-85C9-4A6A-86EB-19B35412E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4B06-7117-458C-A534-028AF6037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31A4-E2D5-43B2-A7C0-A4B8FE992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A5CB-F1FA-4CF4-9FAF-D05B54C1F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4AF5-9C55-49D2-9DA5-27CEEFDD3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B182-10B5-4303-8F75-D0D7809FB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2FBA-54B6-4C58-8B63-7012B3E5C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674A-934F-494F-912F-31FC71D2E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03682-2499-4487-B2F3-69E9AF8D29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tmp/home/.config/libreoffice/4/user/gallery/guitar1.wav" TargetMode="External"/><Relationship Id="rId3" Type="http://schemas.openxmlformats.org/officeDocument/2006/relationships/hyperlink" Target="file:///tmp/home/.config/libreoffice/4/user/gallery/guitar2.wav" TargetMode="External"/><Relationship Id="rId4" Type="http://schemas.openxmlformats.org/officeDocument/2006/relationships/hyperlink" Target="file:///tmp/home/.config/libreoffice/4/user/gallery/guitar3.wav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elecbi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>
            <a:hlinkClick r:id="rId2"/>
          </p:cNvPr>
          <p:cNvSpPr/>
          <p:nvPr/>
        </p:nvSpPr>
        <p:spPr>
          <a:xfrm>
            <a:off x="0" y="-228600"/>
            <a:ext cx="3048120" cy="7086600"/>
          </a:xfrm>
          <a:custGeom>
            <a:avLst/>
            <a:gdLst>
              <a:gd name="textAreaLeft" fmla="*/ 197280 w 3048120"/>
              <a:gd name="textAreaRight" fmla="*/ 2850840 w 3048120"/>
              <a:gd name="textAreaTop" fmla="*/ 197280 h 7086600"/>
              <a:gd name="textAreaBottom" fmla="*/ 6889320 h 7086600"/>
            </a:gdLst>
            <a:ahLst/>
            <a:rect l="textAreaLeft" t="textAreaTop" r="textAreaRight" b="textAreaBottom"/>
            <a:pathLst>
              <a:path w="21600" h="50215">
                <a:moveTo>
                  <a:pt x="0" y="0"/>
                </a:moveTo>
                <a:lnTo>
                  <a:pt x="21600" y="0"/>
                </a:lnTo>
                <a:lnTo>
                  <a:pt x="21600" y="50215"/>
                </a:lnTo>
                <a:lnTo>
                  <a:pt x="0" y="50215"/>
                </a:lnTo>
                <a:close/>
              </a:path>
              <a:path fill="lightenLess" w="21600" h="502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50215">
                <a:moveTo>
                  <a:pt x="21600" y="0"/>
                </a:moveTo>
                <a:lnTo>
                  <a:pt x="21600" y="50215"/>
                </a:lnTo>
                <a:lnTo>
                  <a:pt x="20200" y="48815"/>
                </a:lnTo>
                <a:lnTo>
                  <a:pt x="20200" y="1400"/>
                </a:lnTo>
                <a:close/>
              </a:path>
              <a:path fill="darkenLess" w="21600" h="50215">
                <a:moveTo>
                  <a:pt x="21600" y="50215"/>
                </a:moveTo>
                <a:lnTo>
                  <a:pt x="0" y="50215"/>
                </a:lnTo>
                <a:lnTo>
                  <a:pt x="1400" y="48815"/>
                </a:lnTo>
                <a:lnTo>
                  <a:pt x="20200" y="48815"/>
                </a:lnTo>
                <a:close/>
              </a:path>
              <a:path fill="lighten" w="21600" h="50215">
                <a:moveTo>
                  <a:pt x="0" y="50215"/>
                </a:moveTo>
                <a:lnTo>
                  <a:pt x="0" y="0"/>
                </a:lnTo>
                <a:lnTo>
                  <a:pt x="1400" y="1400"/>
                </a:lnTo>
                <a:lnTo>
                  <a:pt x="1400" y="4881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3"/>
          </p:cNvPr>
          <p:cNvSpPr/>
          <p:nvPr/>
        </p:nvSpPr>
        <p:spPr>
          <a:xfrm>
            <a:off x="3505320" y="-228600"/>
            <a:ext cx="3047760" cy="7086600"/>
          </a:xfrm>
          <a:custGeom>
            <a:avLst/>
            <a:gdLst>
              <a:gd name="textAreaLeft" fmla="*/ 197280 w 3047760"/>
              <a:gd name="textAreaRight" fmla="*/ 2850480 w 3047760"/>
              <a:gd name="textAreaTop" fmla="*/ 197280 h 7086600"/>
              <a:gd name="textAreaBottom" fmla="*/ 6889320 h 7086600"/>
            </a:gdLst>
            <a:ahLst/>
            <a:rect l="textAreaLeft" t="textAreaTop" r="textAreaRight" b="textAreaBottom"/>
            <a:pathLst>
              <a:path w="21600" h="50221">
                <a:moveTo>
                  <a:pt x="0" y="0"/>
                </a:moveTo>
                <a:lnTo>
                  <a:pt x="21600" y="0"/>
                </a:lnTo>
                <a:lnTo>
                  <a:pt x="21600" y="50221"/>
                </a:lnTo>
                <a:lnTo>
                  <a:pt x="0" y="50221"/>
                </a:lnTo>
                <a:close/>
              </a:path>
              <a:path fill="lightenLess" w="21600" h="5022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50221">
                <a:moveTo>
                  <a:pt x="21600" y="0"/>
                </a:moveTo>
                <a:lnTo>
                  <a:pt x="21600" y="50221"/>
                </a:lnTo>
                <a:lnTo>
                  <a:pt x="20200" y="48821"/>
                </a:lnTo>
                <a:lnTo>
                  <a:pt x="20200" y="1400"/>
                </a:lnTo>
                <a:close/>
              </a:path>
              <a:path fill="darkenLess" w="21600" h="50221">
                <a:moveTo>
                  <a:pt x="21600" y="50221"/>
                </a:moveTo>
                <a:lnTo>
                  <a:pt x="0" y="50221"/>
                </a:lnTo>
                <a:lnTo>
                  <a:pt x="1400" y="48821"/>
                </a:lnTo>
                <a:lnTo>
                  <a:pt x="20200" y="48821"/>
                </a:lnTo>
                <a:close/>
              </a:path>
              <a:path fill="lighten" w="21600" h="50221">
                <a:moveTo>
                  <a:pt x="0" y="50221"/>
                </a:moveTo>
                <a:lnTo>
                  <a:pt x="0" y="0"/>
                </a:lnTo>
                <a:lnTo>
                  <a:pt x="1400" y="1400"/>
                </a:lnTo>
                <a:lnTo>
                  <a:pt x="1400" y="48821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4"/>
          </p:cNvPr>
          <p:cNvSpPr/>
          <p:nvPr/>
        </p:nvSpPr>
        <p:spPr>
          <a:xfrm>
            <a:off x="6781680" y="-228600"/>
            <a:ext cx="2362320" cy="7086600"/>
          </a:xfrm>
          <a:custGeom>
            <a:avLst/>
            <a:gdLst>
              <a:gd name="textAreaLeft" fmla="*/ 153000 w 2362320"/>
              <a:gd name="textAreaRight" fmla="*/ 2209320 w 2362320"/>
              <a:gd name="textAreaTop" fmla="*/ 153000 h 7086600"/>
              <a:gd name="textAreaBottom" fmla="*/ 6933600 h 7086600"/>
            </a:gdLst>
            <a:ahLst/>
            <a:rect l="textAreaLeft" t="textAreaTop" r="textAreaRight" b="textAreaBottom"/>
            <a:pathLst>
              <a:path w="21600" h="64790">
                <a:moveTo>
                  <a:pt x="0" y="0"/>
                </a:moveTo>
                <a:lnTo>
                  <a:pt x="21600" y="0"/>
                </a:lnTo>
                <a:lnTo>
                  <a:pt x="21600" y="64790"/>
                </a:lnTo>
                <a:lnTo>
                  <a:pt x="0" y="64790"/>
                </a:lnTo>
                <a:close/>
              </a:path>
              <a:path fill="lightenLess" w="21600" h="647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4790">
                <a:moveTo>
                  <a:pt x="21600" y="0"/>
                </a:moveTo>
                <a:lnTo>
                  <a:pt x="21600" y="64790"/>
                </a:lnTo>
                <a:lnTo>
                  <a:pt x="20200" y="63390"/>
                </a:lnTo>
                <a:lnTo>
                  <a:pt x="20200" y="1400"/>
                </a:lnTo>
                <a:close/>
              </a:path>
              <a:path fill="darkenLess" w="21600" h="64790">
                <a:moveTo>
                  <a:pt x="21600" y="64790"/>
                </a:moveTo>
                <a:lnTo>
                  <a:pt x="0" y="64790"/>
                </a:lnTo>
                <a:lnTo>
                  <a:pt x="1400" y="63390"/>
                </a:lnTo>
                <a:lnTo>
                  <a:pt x="20200" y="63390"/>
                </a:lnTo>
                <a:close/>
              </a:path>
              <a:path fill="lighten" w="21600" h="64790">
                <a:moveTo>
                  <a:pt x="0" y="64790"/>
                </a:moveTo>
                <a:lnTo>
                  <a:pt x="0" y="0"/>
                </a:lnTo>
                <a:lnTo>
                  <a:pt x="1400" y="1400"/>
                </a:lnTo>
                <a:lnTo>
                  <a:pt x="1400" y="6339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2T01:03:17Z</dcterms:created>
  <dc:creator>Unknown User</dc:creator>
  <dc:description/>
  <dc:language>en-US</dc:language>
  <cp:lastModifiedBy>Dunamis</cp:lastModifiedBy>
  <dcterms:modified xsi:type="dcterms:W3CDTF">2004-09-21T16:08:50Z</dcterms:modified>
  <cp:revision>2</cp:revision>
  <dc:subject/>
  <dc:title>PowerPoint Presentation</dc:title>
</cp:coreProperties>
</file>